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64D-227E-4B64-8448-8D12FE47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33D-245D-4E45-98FD-68B0664C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9E9-7C06-441F-A340-8C25B344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069-80E6-4AF0-9B4B-DB0C6C06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1DA-C049-4F63-A6A1-66398C7A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903-BBCF-4A3D-A9A6-AA107F1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885-DA21-44A9-AEF8-065075F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14C-7B9A-4EC6-95B5-0B1ACFB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251-34AF-4508-AA62-38021992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C40-46F1-4D96-9DA5-416EA7F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A58-C146-4811-90A5-2B67581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1D5-003A-44C2-B710-5FFE954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516-9614-4693-9BBB-2E8C7539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ssauclerk.com/clerk/publicrecords/oncoreweb/search.aspx?bd=08/31/1982&amp;ed=2/10/2010&amp;n=PATTON%20ANN&amp;bt=O&amp;b=1592&amp;p=444&amp;d=2/10/2010&amp;pt=-1&amp;dt=ALL%20DOCUMENT%20TYPES&amp;st=bookpag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962160" cy="152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br>
              <a:rPr sz="3900"/>
            </a:br>
            <a:br>
              <a:rPr sz="1000"/>
            </a:br>
            <a:br>
              <a:rPr sz="1200"/>
            </a:b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DOCX                        Assignment of Mortgage</a:t>
            </a:r>
            <a:br>
              <a:rPr sz="47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-----------------------------------------------------</a:t>
            </a:r>
            <a:br>
              <a:rPr sz="4700"/>
            </a:br>
            <a:br>
              <a:rPr sz="1000"/>
            </a:b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Bogus Assignee</a:t>
            </a:r>
            <a:br>
              <a:rPr sz="47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33920" y="45720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th Bogus             Assignments Were Prepar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65600" cy="2030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767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on Mehar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OC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harg Is Senior Vice President      of IT Solutions                                        at FIS-LPS-DSG (DOC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33920" y="10663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Sign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76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nda Gr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en Holds Many Job Ti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1240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33520"/>
            <a:ext cx="88390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11-2008 &amp; 08-14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2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19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3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3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85800"/>
            <a:ext cx="883908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08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 &amp; Asst. Secretary, American Home Mortgage Servicing, Inc., as servicer for Ameriquest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16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17-2008 &amp; 11-2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-2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08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83908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15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HLB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24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26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-1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Family Lending Service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-1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533520"/>
            <a:ext cx="88390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15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0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,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,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8839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Deutsche Bank National Trust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rgent Mortgage Company, LLC by Citi Residential Lending Inc., attorney-in-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6-2009 &amp; 03-2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-15-2009, 04-17-2009 &amp; 04-2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685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-11-2009 &amp; 07-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1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1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 &amp; Asst. Secretary, American Home Mortgage Servicing, Inc., as servicer for Deutsch Bank National Trust Company, as trustee for Ameriquest Mortgage Securities, Inc. asset-backed pass through certificates, series 2004-R7, under the posting and servicing agreement dated July 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3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685800"/>
            <a:ext cx="8839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1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Sand Canyon Corporation, f/k/a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2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Vice President, Sand Canyon Corporation, formerly known as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Secretary, MERS, acting solely as nominee for American Home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Secretary, MERS, acting solely as nominee for American Home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83908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21-2009 &amp; 09-2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nd the List Goes 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oks like DOCX’s                      “Art Department”                       Forgot to Change                         the Wording on Their              Assignment of Mortgage  Template before                            They Filed this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so Sign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0384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mas, Harp &amp; Hua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ld Equally Impressive               (and Lengthy) Job Ti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93800" cy="1190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200400" cy="906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62720" y="2743200"/>
            <a:ext cx="327636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Bogus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reby, grant, bargain,      sell, assign, transfer,          convey, set over,                        and deliver unt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OGUS ASSIGNEE FOR INTERVENING ASMT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12760"/>
            <a:ext cx="8001000" cy="638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x Gardner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ankruptcy Boot Cam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reby, grant, bargain,      sell, assign, transfer,          convey, set over,                        and deliver unt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OGUS ASSIGNEE FOR INTERVENING ASMT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 Is Recorded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ok 1592, Page 44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the Nassau County Clerk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ficial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wo Additional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ssign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ame Own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am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9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Assignment Identifies       American Home Mortgage     Acceptance / Ann Patton                        as the Grantors                                (MERS Appears also in Two of Them) and with Various Assignees:         Bogus, American Home Mortgage Servicing, Inc., and American Home Mortgage Servicing, Inc./Option On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1:36:55Z</dcterms:created>
  <dc:creator> </dc:creator>
  <dc:description/>
  <dc:language>en-US</dc:language>
  <cp:lastModifiedBy> </cp:lastModifiedBy>
  <dcterms:modified xsi:type="dcterms:W3CDTF">2010-02-27T15:59:19Z</dcterms:modified>
  <cp:revision>12</cp:revision>
  <dc:subject/>
  <dc:title>Slide 1</dc:title>
</cp:coreProperties>
</file>